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7BC-CBEC-4AC2-A648-C7211AEF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24D-3B73-4CB0-B0A9-B211230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414-A63A-472D-874F-277C11C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7FF-D178-4A60-B4FB-4301A621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3E4D-5A2D-4EA2-AB89-2E8284DD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6CB-F9AA-4250-A62F-9455A4B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59CB-FE73-4F5D-90F2-FF9CFC5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067-3956-4E2F-A9C8-3B9AFE0C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1125-AFBB-462E-8D6F-8E85691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E2D-C255-4B76-B1B6-1B9677D6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97D4-D611-41D3-B479-D083CA35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750-D575-4633-ADC0-DFF1D6A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E079-0D7F-49F8-BE21-449814E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8280-F401-4620-AA1A-7CDDB08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2190-CB94-45F5-9B9A-E10B4C1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A4CE-A9D9-43C4-A8B6-F0F3E852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0AC-FFEF-440B-AD1B-13A9B82E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9C1-DCFC-4CD2-9FC6-AEF3735D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18B-7445-4BA7-B7D3-16FF7F5D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F7B-1AA6-42BD-8EF8-F624E29A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83F-9F6F-4531-95AF-5B76244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30B-4F3B-4BE5-BCC8-F09F30E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837-9247-4BB2-BCFB-65AC91A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6A4-AADA-4262-941B-A95847D2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8F6-62FD-4DFC-8D09-C40AC4E3A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1FE5-9550-4CB1-8F56-D1E8598ECC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440" y="685800"/>
            <a:ext cx="8001000" cy="5105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  «Эмоциональная устойчивость             учите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я общения на урок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– псих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ляг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photo1414"/>
          <p:cNvPicPr/>
          <p:nvPr/>
        </p:nvPicPr>
        <p:blipFill>
          <a:blip r:embed="rId1"/>
          <a:stretch/>
        </p:blipFill>
        <p:spPr>
          <a:xfrm>
            <a:off x="228600" y="457200"/>
            <a:ext cx="8763120" cy="141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торой этап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начало непосредственного взаимодействия учителя с классом. Иначе его называют коммуникативной атакой. От самых первых минут общения педагога с учащимися зависит довольно многое. Сумеет ли учитель взять инициативу общения в свои руки или же сразу отдаст ее ученикам? Будет ли он последовательно реализовывать свои задумки по взаимодействию с классом или же пустит все на самотек: как получится? Очевидно, важную информацию для учащихся содержит голос учителя, его первые слова к классу:  Как они произнося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ой интонацией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ообщают учащимс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99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ретий этап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правление  общением  в развивающемся  педагогическом  процессе  является самым продолжительным по времени непосредственного взаимодействия учителя и учеников и, очевидно, самым сложным. Эта сложность обусловливается прежде всего тем, что каждый этап урока (организационный момент, опрос учащихся, объяснение нового материала, закрепление и т.п.) отличается спецификой решаемых на нем задач и особенностями взаимодействия учителя с класс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етвертый этап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 осуществленной системы общения и моделирование предстоящей деятельности. Суть этого этапа заключается в том, чтобы проанализировать состоявшееся общение со школьниками, отметить его основные тенденции и понять причины успешного взаимодействия с ними, а также трудностей, с которыми пришлось столкнуться педагог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этом этапе педагогу важно поставить перед собой    следующие вопросы: Удался ли урок в плане общения с учащимися? Правильно ли он взаимодействовал с классом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i?id=165152001-53-72"/>
          <p:cNvPicPr/>
          <p:nvPr/>
        </p:nvPicPr>
        <p:blipFill>
          <a:blip r:embed="rId1"/>
          <a:stretch/>
        </p:blipFill>
        <p:spPr>
          <a:xfrm>
            <a:off x="6858000" y="48769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уществуют  три  стиля педагогического общен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2057400"/>
            <a:ext cx="8007480" cy="27432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бера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i?id=311066165-26-72"/>
          <p:cNvPicPr/>
          <p:nvPr/>
        </p:nvPicPr>
        <p:blipFill>
          <a:blip r:embed="rId1"/>
          <a:stretch/>
        </p:blipFill>
        <p:spPr>
          <a:xfrm>
            <a:off x="6705720" y="2895480"/>
            <a:ext cx="1733400" cy="188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?id=261544875-39-72"/>
          <p:cNvPicPr/>
          <p:nvPr/>
        </p:nvPicPr>
        <p:blipFill>
          <a:blip r:embed="rId2"/>
          <a:stretch/>
        </p:blipFill>
        <p:spPr>
          <a:xfrm>
            <a:off x="4800600" y="4781520"/>
            <a:ext cx="1733400" cy="161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?id=381483785-65-72"/>
          <p:cNvPicPr/>
          <p:nvPr/>
        </p:nvPicPr>
        <p:blipFill>
          <a:blip r:embed="rId3"/>
          <a:stretch/>
        </p:blipFill>
        <p:spPr>
          <a:xfrm>
            <a:off x="6858000" y="4781520"/>
            <a:ext cx="17334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или поведения и руководств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дагог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574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втократический стил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втономная власть руководителя; руководитель принимает решение сам и сам его объявля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вторитарный  стиль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 решает все вопросы, касающиеся  жизнедеятельности как классного коллектива ,так и каждого учащегося. Единолично  определяет направление деятельности группы, пересекает всякую инициативу  учащихся. Основные формы взаимодействия – приказ, указание, инструкция, выговор. Преобладает начальственный то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?id=220377387-00-72"/>
          <p:cNvPicPr/>
          <p:nvPr/>
        </p:nvPicPr>
        <p:blipFill>
          <a:blip r:embed="rId1"/>
          <a:stretch/>
        </p:blipFill>
        <p:spPr>
          <a:xfrm>
            <a:off x="7315200" y="5181480"/>
            <a:ext cx="1657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емократический стиль 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старается донести цель деятельности до сознания каждого ребёнка, подключает к активному участию в обсуждении хода работы. У ученика появляется уверенность к себе. Развивается самоуправление. Наиболее оптимально распределяется в классе нагрузка с учетом склонностей и способностей каждого: поощряется активность, развивается инициатива. Основные способы общения  у такого учителя – просьба, совет , информ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?id=600767023-25-72"/>
          <p:cNvPicPr/>
          <p:nvPr/>
        </p:nvPicPr>
        <p:blipFill>
          <a:blip r:embed="rId1"/>
          <a:stretch/>
        </p:blipFill>
        <p:spPr>
          <a:xfrm>
            <a:off x="6629400" y="46483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беральный стиль или попустительск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ли стиль – передача группе полномочий руководителя; при принятии решения все могут высказывать свои позиции, но реального согласования мнений достичь не стремятся; принятые решения не выполняются; нет контроля их реал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i?id=453124893-11-72"/>
          <p:cNvPicPr/>
          <p:nvPr/>
        </p:nvPicPr>
        <p:blipFill>
          <a:blip r:embed="rId1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Что такое стиль  педагогического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общения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ль – это индивидуально -  типологические особенности взаимодействия  педагога – и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i?id=261544875-39-72"/>
          <p:cNvPicPr/>
          <p:nvPr/>
        </p:nvPicPr>
        <p:blipFill>
          <a:blip r:embed="rId1"/>
          <a:stretch/>
        </p:blipFill>
        <p:spPr>
          <a:xfrm>
            <a:off x="7000920" y="4245120"/>
            <a:ext cx="2109600" cy="25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?id=380086382-23-72"/>
          <p:cNvPicPr/>
          <p:nvPr/>
        </p:nvPicPr>
        <p:blipFill>
          <a:blip r:embed="rId2"/>
          <a:stretch/>
        </p:blipFill>
        <p:spPr>
          <a:xfrm>
            <a:off x="5251320" y="4935600"/>
            <a:ext cx="1782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В педагогике выделяют шесть стилей педагогического   обще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увлеченности-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 относится к общению с детьми  творчески учитывает индивидуальные особенности характера учащихся, особенности эмоциональной сферы. Учитель пытается объединить их творческой деятельностью, которая для ребят интересна и знач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дружеского общ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важнейший регулятор общения, а вместе с увлеченностью совместным делом может иметь деловую направленность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 диалогического общ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редполагает сотрудничество педагога и воспитанников на основе взаимного ува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заигрыв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учитель играет в работе с детьми не менее отрицательную роль. Этот стиль общения отвечает стремлению завоевать ложный дешевый авторитет у детей, что противоречит требованиям педагогической э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i?id=62953741-37-72"/>
          <p:cNvPicPr/>
          <p:nvPr/>
        </p:nvPicPr>
        <p:blipFill>
          <a:blip r:embed="rId1"/>
          <a:stretch/>
        </p:blipFill>
        <p:spPr>
          <a:xfrm>
            <a:off x="6477120" y="457200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25905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Познакомить с различными стилями педагогического общения, структурой педагогических воз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i?id=116479774-38-72"/>
          <p:cNvPicPr/>
          <p:nvPr/>
        </p:nvPicPr>
        <p:blipFill>
          <a:blip r:embed="rId1"/>
          <a:stretch/>
        </p:blipFill>
        <p:spPr>
          <a:xfrm>
            <a:off x="5867280" y="3886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дистанцииров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довольно распространенный стиль общения, которым пользуются как начинающие педагоги. Суть его в том, что во взаимоотношениях педагога и учащихся постоянно обеими сторонами ощущается дистанция во всех сферах общения, которая во взаимоотношениях педагога и воспитанников ведет к формализации системы социально – психологического взаимодействия учителя и учеников и не способствует созданию творческой атмосферы.  Но не означает, что дистанция вообще не должна существовать, она необходима  в общей системе отношений ученика и педагога, в их совместном творческом процесс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иль устраш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негативная форма общения. Чаще всего к ней прибегают начинающие учителя, что объясняется их неумением организовать продуктивную совместную деятельность с учениками. Такое общение разрушает творческую деятельность, представляет собой сугубо регламентирующую коммуникативную систему, ограничивающую творческий поиск детей. В общении  учителя с учащимися и их родителями ,со своими коллегами, администрацией школы, а также в зависимости от условий складывающейся ситуации педагог занимает определенные коммуникативные пози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я «над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активным субъектом общения выступает учитель.              Он проявляет инициативу, управляет, контролирует, планирует ситуацию, реализует свои це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я «наравн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дит общение двух равных партнеров, при котором они оба проявляют инициативу и активность, стараются учитывать цели и интересы друг друга, вступают в отношения взаимозависим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ция «под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занимает подчиненное положение по отношению к учащемуся по общ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Функции общения учителя 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на уроке</a:t>
            </a: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ервая функц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открытие"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ка на общение призвана, с одной стороны, создать ему комфортные условия на уроке, в классе, в школе, во время внеклассного мероприятия. В состоянии психологической раскрепощённости дети активнее развиваются, смелее проявляют себя, не боятся показаться смешными или попасть в немилость к учителю. С другой стороны, без реализации этой функции не удается выявить отношение ребенка, и педагог вынужден довольствоваться лишь его поведенческими реакциями, которые, как известно, могут определяться и диктоваться скрытыми моти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торая функц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"соучастие" ребенку в педагогическом общении — обнаруживается в результате анализа процесса взаимодействия учителя с детьми. В зависимости от возраста ребенок посещает первый, второй, третий... одиннадцатый классы. В соответствии со школьным расписанием он приходит на урок один, два, три раза в неделю. На уроке ученик осваивает тот учебный материал и включается в те формы работы, которые ему предлагает преподаватель. Он как бы "навязывает" ребенку общение, которое время от времени ставит его в затруднительное положение потому, что оно оказывается нехарактерным, несвойственным ему. Реализуя соучастие в адрес ребенка, педагог помогает ему справиться с теми трудностями, которые встречаются на его пути восхождения к культуре человече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ретья функц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"возвышение" ребенка в педагогическом общении— понимается не как завышенная оценка, а как стимулирование ценностных новообразований. Даже среди необразованных в педагогическом смысле родителей не найти таких, которые бы не пользовались возвышением в общении со своими детьми: Молодец! Ты уже научился хорошо читать!.." Ребенок написал первое слово, им восхищаются: "Как здорово у тебя получилось!..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MCj03974640000[1]"/>
          <p:cNvPicPr/>
          <p:nvPr/>
        </p:nvPicPr>
        <p:blipFill>
          <a:blip r:embed="rId1"/>
          <a:stretch/>
        </p:blipFill>
        <p:spPr>
          <a:xfrm>
            <a:off x="6705720" y="4495680"/>
            <a:ext cx="1904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Индивидуальные стили педагогической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А.К. Марковой А.Я. Никоновой</a:t>
            </a: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895480"/>
            <a:ext cx="8229600" cy="3200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о-импровизацио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о-метод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и-импровизацио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уждающей-методический сти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Эмоционально-импровизационный стиль  деятельности педагога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761760"/>
            <a:ext cx="8616960" cy="5638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стоинства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зн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истиз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влечь учащихся преподаваемым предме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и отличаются благоприятным коммуникативным климатом, разнообразием мето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ует система закрепления и повторения учебного матер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очный контроль за знаниями учащихся (особенно слабоуспевающих учащихс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колько завышена Ваша самооц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имость поведения от ситуации на уро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зультат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учащихся стойкий интерес к предм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познавательная активность сочетается с непрочными знания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комендации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изировать внимание к предмету не внешней развлекательностью, а мировоззренческой сущност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тически  осуществлять контроль зн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16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Эмоционально-методический стиль деятельности педагог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520" y="1219320"/>
            <a:ext cx="8464680" cy="533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стоинства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метод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активизировать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использовать различные методы, формы и средства 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ше настроение зависит от ситуации на уроке, от подготовленности отдельных учащихся на уроке,  и их дисципл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зульта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ные знания сочетаются с высокой активностью и сформированными навыками 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комендации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раться терпения и если необходимо несколько раз объяснить материал, который учащимися не понят, варьируя при этом приёмы объяс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68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Методически –импровизационный стиль деятельности педагог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066680"/>
            <a:ext cx="8464680" cy="5562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стоинст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зн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методическая куль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бовательность к себе и учащим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имательное отношение к уровню знаний учащих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ивная самооценка, сдержа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очное варьирование форм и методов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статочно высокий темп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 времени тратиться на опр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зульта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учащихся интерес к изучаемому предмету сочетается с прочными знаниями и сформированными навыками 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коменда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образить методы и формы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ит темп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«Эмоциональная устойчивость             учителя. 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должен входить в класс с хорошим бодр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роем и уметь настроить себя на жизнерадостную с детьми паралле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ю вообще должно быть присуще  желание и стремление общаться с детьми, общаться в доброжелательной форме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ей его речи, жестов, мимики, телодвижений, действий и других проявле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е эмоциональное состояние, включая эмоциональное отрицательной  модальности, можно выразить в деликатной форм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i?id=168730123-66-72"/>
          <p:cNvPicPr/>
          <p:nvPr/>
        </p:nvPicPr>
        <p:blipFill>
          <a:blip r:embed="rId1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89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Рассуждающее - методический стиль деятельности педагог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95280"/>
            <a:ext cx="8540640" cy="5181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стоинств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методическая 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имательное отношение к уровню знаний всех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мение постоянно поддерживать интерес учащихся к своему предме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чтение репродуктивной деятельности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образие методов и форм 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зульта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ые навыки учения и прочные знания учащихся сочетаются с отсутствием интереса к изучаемому предме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коменд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ее использовать приём поощрения учащихся за удачный ответ и поиск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ь о том, что от эмоционального состояния Ваших учеников зависит  и результативность Ваше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ый труд учителя отличается высокой эмоциональной загруженностью. Существует множество как объективных, так и субъектив­ных эмоциогенных факторов педагогической деятельности. Так как в профессиональные обязанности педагога входит эмоциональное «выклады­вание», то в психологии труда учителя существует такое понятие как синдром эмоционального выгорания. У педагога возникает неудовлетво­ренность собой и своей профессией, появляется чувство загнанности в клетку, повышается раздражительность, конфликтность. Переживаемые негативные эмоциональные состояния часто сопровождаются ярко выраженными вегетативными реакциями: тремор рук, заметные изменения в мимике и тонусе лица, учащенное сердцебиение. Это отрицательно сказывается на самочувствии педагога, вызывает сильное переутомление, снижение работ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Как педагогу научиться быть сдержанным Рекомендации  психолога!!!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ытайтесь заменять отрицательное  эмоциональное  состояние положительным на основе волевого усилия, самовнушения, трениро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Накапливайте и фиксируйте собственный опыт педагогических находок, успехов, достижений, добрых слов и д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Чаще пользуйтесь добрым юмором, поддерживающей шут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Овладейте и систематически пользуйтесь одной из систем релаксации (расслабления), подходящей в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Упражнение №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ожите в сторону все проблемы. В течении 3 минут дышите медленно, спокойно, глубоко. Можете закрыть глаза. Посчитать до пяти, пока делаете вдох, и до семи, когда выдыхаете.(Затрата большого количества времени на вдох создает успокаивающий эффект). Представьте, что ваши беспокойства улетучиваю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е №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колько раз вслух повторяйте короткие утвержд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йчас я чувствую себя луч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ь слишком коротка, что бы тратить ее на всякие беспоко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счастли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еня все будет в поряд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я №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лечение внимания – это способ позитивного отвлечения, который блокирует стрессовые мысли. Поэтому вспомните 10 предметов или вещей, о которых вы мечтаете. Или медленно сосчитайте листья на цветке, буквы на отпечатанной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ице. Или в течении 2 минут перечисляйте качества, которые вам в себе нравя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я №4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те простые слова типа: мир, покой, отдых, уют. Пусть мысли проносятся в вашей голове. Закройте глаза и сосредоточьтесь. Повторяйте слово или считайте про себя в течение минуты. Дышите медленно и глубо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эти  советы помогут вам в трудной ответственной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19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е №5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лабив свои мышцы, просто скажите себе: "Совершенство не возможно, но в  каждом виде достижений  есть  своя вершина. Я буду стремиться к ней, и довольствоваться этим. Крахи и падения не могут сбить меня с пути. Все мои падения будут такими мягкими, как удачное приземления профессионального парашютиста. Неприятности, стремящиеся ко мне, как бумеранг возвратятся обратно. Я  буду  переносить их, как прикоснов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е №6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друг вы почувствовали, что стали раздражительными и излишне нервозными вам подойдет такая установка: "Сейчас я  буду  усиливать свою нервную систему. Процесс этот продолжиться днем и ночью. Изо дня в день, ежеминутно весь мой организм направляет все свои силы на повышение устойчивости нервной системы. Крепнут моя воля и характер. Моя уверенность в себе становится твердой, как металл. Моя нервная система отдыхает и набирается сил. Каждая частица моего тела стремиться к укреплению нервной системы. К завтрашнему утру  моя нервная система  будет  похожа на мощный дуб,  она  будет  такой же крепкой и не сгибаем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ые неприятности перестанут отрицательно влиять на мою жизнь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7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Упражнение  №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Рук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 снятие усталости, установление психического равновесия, балан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ядьте на стул, немного вытянув ноги и свесив руки вниз. Представь! себе, что энергия усталости «вытекает» из кистей рук в землю, - вот он струится от головы к плечам, перетекает по предплечьям, достигает локтей, устремляется к кистям и через кончики пальцев просачивается вниз, землю. Вы отчетливо, физически ощущаете теплую тяжесть, скользящую п вашим рукам. Посидите так минуты 1,5-2, а затем слегка потрясите кистям рук, окончательно избавляясь от своей устал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Упражнение  №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Саморазвивающиеся  представлени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ядьте удобно. Закройте глаза. Расслабьтесь. Делаем глубокий вдох и выдох. Сосредоточимся на своих ощущениях. А теперь попытаемся воссоздать в своем воображении целостную картину, целостный образ. Представьте себе пляж у моря. Жаркий день. Палит солнце. Вы в купаль­ном костюме. С наслаждением вытягиваемся на песке ... Смотрим в море. Вид­ны головы купающихся ... Рассмотрим получше линию горизонта. Что там поя­вилось? Всматриваемся внимательно ... А что происходит вокруг, на берегу? Солнце палит сильно, приходится поворачиваться с боку на бок. Хочется искупаться ... Входим в воду ... Чувствуем ее прикосновение ... Какая она? Образы уходят. Сосредоточили свое внимание на своем теле. Сжали руки. Открыли гл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Рефлексия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лось ли увидеть всю картину, вызвать соответствующие телесные ощущ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эти  советы помогут вам в трудной ответственной ситу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«Общительный ли вы человек?»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т тест позволит вам определить уровень вашей коммуникабельности, разобраться в особенностях своего стиля общ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Если вас пригласил в гости человек, которому вы не симпатизируете, то примете ли вы это приглашени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 исключительных случая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едставьте себе, что в гостях вы вынуждены сидеть около человека, которого вы считаете своим врагом. Как вы себя поведе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буду обращать на него вним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 отвечать только на его вопр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ытаюсь завязать с ним непринужденный раз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должен хорошо знать возрастные психологические особенности учащихся, а также развивать в  себе педагогическую наблюдательность, чтобы гибко и адекватно реализовать на ту или иную ситуацию на уроке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им из самых «взрывоопасных » этапов урока является регулирование и коррекции поведение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i?id=39912631-03-72"/>
          <p:cNvPicPr/>
          <p:nvPr/>
        </p:nvPicPr>
        <p:blipFill>
          <a:blip r:embed="rId1"/>
          <a:stretch/>
        </p:blipFill>
        <p:spPr>
          <a:xfrm>
            <a:off x="5791320" y="4648320"/>
            <a:ext cx="2438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ы только что собрались зайти в одну квартиру, но внезапно слышите, что там возник семейный спор. Что вы сделает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-таки позвон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жду, пока спор прекратит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й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то вы сделаете, если в гостях вам предложат блюдо, которое вы не любит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мотря на отвращение, съем ег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жу хозяевам, что не могу его е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луюсь на отсутствие аппет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й бутерброд вы обычно выбирает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лучш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маленьк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жайший ко м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Что вы предпримете в том случае, если в компании внезапно наступил перерыв в разгов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жду до тех пор, пока кто-нибудь не начнет разговор на новую тем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 найду какую-нибудь т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088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Представьте, что вы на работе или где-нибудь еще попали в неприятное положение. Расскажете ли вы об этом своим знаком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друзь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кажу ни одному челове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Добавляете ли вы что-нибудь от себя в рассказы, которые слышали от други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очень незначительными «улучшениями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ти н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Носите ли вы с собой фотографию любимого человека и показываете ли вы ее друзья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Что вы делаете, если, будучи в компании, не понимаете рассказанного анекдо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юсь вместе со все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юсь серьезны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у, чтобы кто-нибудь объяснил мне суть анекдо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Что вы предпринимаете, если, будучи в компании, начинаете ощущать резкую головную бол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хо терпл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у таблетку от головной бол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у до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ы делаете, если, находясь в гостях, узнаете, что по телевизору сейчас начнется передача, которая интересует только ва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шу, чтобы хозяин включил телевиз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ю ее в соседней комнате, чтобы не помешать остальны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т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азываюсь от просмотра переда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 находитесь в гостях. Какая ситуация для вас более комфортн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развлекаю гос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меня развлекают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даете ли вы привычкой заранее решать, как долго сможете оставаться в гостя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спондент газеты взял у вас интервью. Какова ваша реакц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лен, если это интервью напечатаю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ел бы, чтобы это было уже в прошло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это совсем безразл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гли бы вы беспристрастно отнестись к людям, которых терпеть не может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условн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 виде исключ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адумывался над этим вопрос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шаетесь ли вы с мнением других людей, если оно справедливо, но для вас неблагоприятн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сег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олько оно подтверждает мое мн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зачем, собственно говоря, это дела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ы прекращаете спо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скорее, тем лучш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этот спор не имеет никакого смыс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того, как я убедил своего оппон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знаете наизусть стихи, то будете ли читать их в обществ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удовольствие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об этом попрося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в коем случа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вы знаете наизусть стихи, то будете ли читать их в обществ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удовольстви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об этом попрося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в коем случа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ьте себе, что вы живете во времена графа Монте-Кристо, сидите в подземной тюрьме и внезапно узнаете, что в соседней камере заключен ваш злейший враг. Начнете ли вы с ним перестукивать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можно скоре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не смогу больше терпеть одиноче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Есть ли у вас обыкновение встречать Новый год на главной площади город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Новый год я обычно спл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Баллы за отве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1920" y="13712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мера вопро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1       2       3       4       5       6       7       8       9      10     11     12     13     14     15     16     17     18      19   20    21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 20       0     5      10      0       5     30      15      0        0       5      0      20      0      10    15      25      0       0      20    5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5       5     10      0      5       15      5       5      5        5      10     5       5       5        0      5       5       5       5       5     0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1" lang="ru-RU" sz="1100" spc="-1" strike="noStrike">
                <a:solidFill>
                  <a:srgbClr val="ffffff"/>
                </a:solidFill>
                <a:latin typeface="Tahoma"/>
              </a:rPr>
              <a:t>0      25     0        5     10      —       0       0      10     10      0    10       2      15       5      0        0       10     10    0  10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нтерпретация 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             результатов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е подсчета баллов вы можете отнести себя к одной из следующих груп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0—300 баллов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ает подозрение, что вы не всегда внимательно читали поставленные вопросы или не всегда искренне на них отвечали. Проверьте-ка себя еще р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—280 баллов. В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е быть довольны собой — по крайней мере, в том, что касается ваших общественных способностей. Вы охотно проводите свободное время среди людей и в любом обществе являетесь желанным гостем и собеседником. Вы обладаете живым умом, впечатлительны, хороший слушатель и рассказчик. Эти и некоторые другие способности часто делают вас душой комп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—200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лов. Ваше отношение к общественной жизни нелегко определить. С одной стороны, вы обладаете свойствами и наклонностями, которые делают вас приятным для общества человеком, с другой — прочие качества вашего характера как бы затеняют первые. В целом вы можете чувствовать себя вполне удовлетворительно в обществе, хотя вам не всегда легко удается приспособиться к окружающим. Однако в обществе, в окружении людей, которым вы симпатизируете, вы часто проводите очень приятные ча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—100 баллов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м нужно признаться в том, что, как правило, вы любите одиночество и в узком семейном или дружеском кру­гу чувствуете себя значительно лучше, чем в большой компании. Что ж, многие знаменитые люди, вошедшие в историю, нередко принадлежали к этой категории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—50 баллов. В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шком замкнуты и живете, избегая общества других людей. Советуем вам быть пообщительнее: это необходимо в первую очередь именно для вас сам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Ваш стиль общени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Склонны ли вы искать пути примирения после очередного служебного    конфликт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сег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иногд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иког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Как вы ведете себя в критической ситуаци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нутренне «кипите»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охраняете полное спокойстви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теряете самооблада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им считают вас коллег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еренным и завистливы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дружелюбны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спокойным и независим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Как вы отреагируете, если вам предложат ответственную должнос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мете ее с некоторыми опасениям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огласитесь без колеб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ткажетесь от нее ради собственного спокой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 вы будете себя вести, если кто-то из коллег без разрешения возьмет с вашего стола бумаг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ыдадите ему «по первое число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ставите верн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спросите, не нужно ли ему еще что-нибуд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меренное поощрение или наказание приносят вре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брение, поощрение будут по-разному восприняты разными учащих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 важно не захвалить хорошо успевающего ученика с высокой самооценкой, важно и для самого ученика, и для учащихся класса (А.В.Макаренк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и воспитание должно строиться без наказания и окриков (В.С.Сухолинский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й дискомфорт на уроке для учителя, а затем и для учащихся, часто идет от чувства профессионального бессилия педагогической деятельности, поэтому учителю важно совершенствовать свое профессиональное мастер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опускать конфликтов с целым классом, а если он возник, не затягивайте его, ищите разумные пути его разре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Какими словами вы встретите мужа (жену), если он (она) вернулся (вернулась)  с работы позже обычного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Что тебя так задержал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где ты торчишь допоздн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я уж начал (а) волновать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 вы ведете себя за рулем автомобил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 Стараетесь обогнать машину, которая «показала вам хвост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вам все равно, сколько автомобилей вас обогнал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мчитесь с такой скоростью, чтобы никто не догнал ва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ими вы считаете свои взгляды на жизн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Сбалансированным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егкомысленным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крайне жестк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Что вы предпринимаете, если не все удаетс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таетесь свалить вину на другого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миряете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становитесь впредь осторож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Как вы реагируете на фельетон о случаях распущенности в среде современной молодеж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 бы уже запретить молодежи такие развлеч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создать возможность для молодежи организованно и культурно отдых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чего мы столько возимся с молодежью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Что вы ощущаете, если должность, которую вы хотели занять, досталась другом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чем я только на это нервы тратил(а)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но, этот человек начальнику приятне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т быть, мне это удастся в другой р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Какие чувства вы испытываете, когда смотрите филь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реннего удоволь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Как вы будете себя вести, если образовалась дорожная пробка и вы опоздали на важное совещани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ете нервничать во время совещ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ытаетесь вызвать снисходительность партне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рчите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Как вы относитесь к своим спортивным увлечения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о стараетесь выигра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ите удовольствие почувствовать себя вновь молоды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ень сердитесь, если проигрывае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 Как вы поступите, если вас плохо обслужат в ресторан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пите, чтобы избежать сканд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овите метрдотеля и сделаете ему замеча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авитесь с жалобой к директору рестора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  Как вы поступите, если вашего ребенка обидят в шко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оворите с учите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роите скандал родителям ребенка, обидевшего вашег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ветуете ребенку дать сдач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 Какой вы челове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ерен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ив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 Что вы скажете подчиненному, с которым столкнулись в двер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ите, это моя вин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чего, пустя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повнимательнее вы не можете бы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 Какова ваша реакция на статью в газете о хулиганстве в среде молодеж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же, наконец, будут приняты конкретные ме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 бы ввести суровые наказ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ьзя же все валить на молодежь, виноваты и воспитате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 Какое животное вы люби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г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юю кош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вед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Баллы за отве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1628640"/>
          <a:ext cx="8424720" cy="3816360"/>
        </p:xfrm>
        <a:graphic>
          <a:graphicData uri="http://schemas.openxmlformats.org/drawingml/2006/table">
            <a:tbl>
              <a:tblPr/>
              <a:tblGrid>
                <a:gridCol w="503280"/>
                <a:gridCol w="299880"/>
                <a:gridCol w="401760"/>
                <a:gridCol w="398520"/>
                <a:gridCol w="401400"/>
                <a:gridCol w="401760"/>
                <a:gridCol w="401760"/>
                <a:gridCol w="401400"/>
                <a:gridCol w="401760"/>
                <a:gridCol w="401760"/>
                <a:gridCol w="398160"/>
                <a:gridCol w="401760"/>
                <a:gridCol w="401760"/>
                <a:gridCol w="401400"/>
                <a:gridCol w="401760"/>
                <a:gridCol w="401760"/>
                <a:gridCol w="401400"/>
                <a:gridCol w="398520"/>
                <a:gridCol w="401760"/>
                <a:gridCol w="401760"/>
                <a:gridCol w="401400"/>
              </a:tblGrid>
              <a:tr h="16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Номера во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428"/>
          <p:cNvSpPr/>
          <p:nvPr/>
        </p:nvSpPr>
        <p:spPr>
          <a:xfrm>
            <a:off x="51912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претация результат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600"/>
            <a:ext cx="8229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 балла и менее. Вы чрезмерно миролюбивы, что обусловлено недостаточной уверенностью в собственных силах и возможностях. Это, конечно, не значит, что вы «греетесь под любым ветерком». И все же побольше решительности вам не помешает! К критике «снизу» относитесь доброжелательно, но побаиваетесь критики «сверху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—44 балла. Вы умеренно агрессивны, вам сопутствует успех в жизни, поскольку в вас достаточно здорового честолюбия. К критике вы относитесь доброжелательно, если она деловая и без претенз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 баллов и более. Вы излишне агрессивны и неуравновешен­ны, нередко бываете чрезмерно жестки по отношению к другим людям, надеетесь дойти до управленческих «верхов», рассчитывая на свои силы. Добиваясь успеха в какой-либо области, вы можете пожертвовать интересами окружающих. К критике вы относитесь двойственно: критику «сверху» принимаете, а критику «снизу» воспринимаете болезненно, порой небрежно. Вы можете преследовать критику «сниз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 семи и более вопросам вы набрали по 3 балла и менее чем по семи вопросам — по 1 баллу, то ваша агрессивность носит скорее разрушительный, чем конструктивный характер. Вы склонны к непродуманным поступкам и ожесточенным дискуссиям, относитесь к людям пренебрежительно и своим поведением провоцируете конфликтные ситуации, которых вполне могли бы избеж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же по семи и более вопросам вы получили по 1 баллу и менее чем по семи вопросам — по 3 балла, то вы чрезмерно замкнуты. Это не означает, что вам не присущи вспышки агрессивности, просто вы их тщательно подавляе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здоровый и духовно развитый педагог может воспитать психологически здорового учени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тимальный  пластический образ учителя на уроке выглядит примерно так: открытая поза, руки опущены вдоль тела или немного согнуты в локтях, ладони время от времени разворачиваются к аудитории, пластика плавная, мелодичная, преобладание психологических жестов над описательными, для привлечения внимания слушателей производится несколько шагов от стола к аудитории, и наоборот, для ослабления внимания  несколько шагов назад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904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общение учитель организует поведение и деятельность учащихся, оценивает их работу и поступки, информирует о происходящих событиях, вызывает соответствующее переживание по поводу поступков, помогает преодолеть трудности, не потерять веру в свои возможности. Еще одной специфической чертой педагогического общения является то, что учитель планирует и организует этот процесс, а ученик должен принять и включиться в н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i?id=412472590-62-72&amp;n=17"/>
          <p:cNvPicPr/>
          <p:nvPr/>
        </p:nvPicPr>
        <p:blipFill>
          <a:blip r:embed="rId1"/>
          <a:stretch/>
        </p:blipFill>
        <p:spPr>
          <a:xfrm>
            <a:off x="6705720" y="4648320"/>
            <a:ext cx="2209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едагогическое общен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офессиональное общение преподавателя с учащимися на уроке и вне его ( в процессе обучения и воспитания), имеющее определённые педагогические функции и направленное на создание благоприятного психологического климата, а также и другого рода  на психологическую оптимизацию учебной деятельности и отношений между педагогом и учащимися.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А. Леонт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А. Канн - Калик выделил  четыре структуры педагогического общения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 первом этап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я  осуществляется пред настройка педагога на предстоящее взаимодействие с классом. На этом этапе педагог прогнозирует восприятие учащимися не только учебного материала, но и личности самого учителя. На первый план здесь выдвигается вопрос о взаимоотношениях с классом. Если у учителя не налажен контакт с учениками, то, очевидно, важно разобраться в причинах не сложившихся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ашний</dc:creator>
  <dc:description/>
  <dc:language>en-US</dc:language>
  <cp:lastModifiedBy>Домашний</cp:lastModifiedBy>
  <dcterms:modified xsi:type="dcterms:W3CDTF">2017-04-02T15:20:04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