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WHOOSH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D8CA-7D5C-4B7B-9A4F-F068692DAC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40F4-F89C-4D1A-97D9-DD56E5BF8F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043B-95C6-4E35-8586-53C6C91A0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3B0E-78EF-46F8-AB4D-E5B4F1DF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8824-2AF1-48C2-8009-2764C1899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762A-B519-474E-80B2-896FB5C11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6C2F-7DBE-4B09-BBCE-825ADDC8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A2E2-C192-4DB3-9C85-ECE46524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2CF5-4BEF-4C08-9468-8FB2EA76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03AC-918F-4E3F-9823-B5C3C642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6AA5-727D-4BC7-BB31-B3C84460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0823-AABA-43DD-A52B-E4AF9F46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78C5-828B-4197-ADB2-A44B4C38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3223-EFB3-4D16-95DA-622E6867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AFB8-15C0-447B-846A-6D30FCA899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ТЕМА</a:t>
            </a:r>
            <a:br>
              <a:rPr sz="5400"/>
            </a:b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«Трудный ребёнок  и пути подхода к нему</a:t>
            </a:r>
            <a:r>
              <a:rPr b="0" i="1" lang="ru-RU" sz="5400" spc="-1" strike="noStrike">
                <a:solidFill>
                  <a:srgbClr val="000000"/>
                </a:solidFill>
                <a:latin typeface="Bradley Hand ITC"/>
              </a:rPr>
              <a:t>»</a:t>
            </a: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"/>
          <p:cNvSpPr/>
          <p:nvPr/>
        </p:nvSpPr>
        <p:spPr>
          <a:xfrm>
            <a:off x="1143000" y="3105000"/>
            <a:ext cx="7238880" cy="31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Bookman Old Style"/>
              </a:rPr>
              <a:t>Тот,  кто не умеет управлять собой, не может и управл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Bookman Old Style"/>
              </a:rPr>
              <a:t>други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лат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Bookman Old Style"/>
              </a:rPr>
              <a:t>Педагог – психолог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Bookman Old Style"/>
              </a:rPr>
              <a:t>Шиляга И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610480" y="-520488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518184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. Взаимодейств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я беру на себя роль ненавязчивого лидера, каждый раз ставящего ребёнка перед необходимостью осознанного выбора и ответственности. Они включают самих ребят в процесс установления правил. Их программа дисциплины строится на повышении самоуважения учеников с помощью стратегии поддерж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j0299125"/>
          <p:cNvPicPr/>
          <p:nvPr/>
        </p:nvPicPr>
        <p:blipFill>
          <a:blip r:embed="rId1"/>
          <a:stretch/>
        </p:blipFill>
        <p:spPr>
          <a:xfrm>
            <a:off x="5791320" y="1447920"/>
            <a:ext cx="2590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На чём строится поведение ученик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1-й закон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ченики выбирают определённое поведение в определённых ситуация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"/>
          <p:cNvSpPr/>
          <p:nvPr/>
        </p:nvSpPr>
        <p:spPr>
          <a:xfrm>
            <a:off x="1371600" y="3733920"/>
            <a:ext cx="6324480" cy="2743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Право выбора в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себя так или инач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должно быть призна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учителем за каждым из учеников</a:t>
            </a: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7"/>
          <p:cNvSpPr txBox="1"/>
          <p:nvPr/>
        </p:nvSpPr>
        <p:spPr>
          <a:xfrm>
            <a:off x="2971800" y="1523880"/>
            <a:ext cx="3571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Основные закон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2 –й закон: </a:t>
            </a: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Castellar"/>
              </a:rPr>
              <a:t>Любое поведение ученика должно быть подчинено общей цели – чувствовать себя приобщённым к школьной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4191120" y="2133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 flipH="1">
            <a:off x="1676520" y="20574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>
            <a:off x="5943600" y="205740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228600" y="2819520"/>
            <a:ext cx="243828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Ощущ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о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оятель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учеб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интеллектуальн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оятель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2971800" y="2819520"/>
            <a:ext cx="274320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6172200" y="2819520"/>
            <a:ext cx="25909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3184560" y="2932200"/>
            <a:ext cx="2454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ить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держи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емлемые отношения с учителем и одноклассник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коммуникативная состоятельн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6248520" y="2971800"/>
            <a:ext cx="2438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осить свой особый вклад в жизнь класса и школы (состоятельность в коллективной деятельн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3-й закон: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арушая дисциплину, ученик осознаёт, что ведёт себя неправильно, но за этим нарушением  стоит одна из четырёх целей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 flipH="1">
            <a:off x="1523520" y="1676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"/>
          <p:cNvSpPr/>
          <p:nvPr/>
        </p:nvSpPr>
        <p:spPr>
          <a:xfrm flipH="1">
            <a:off x="3657600" y="1600200"/>
            <a:ext cx="3808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0"/>
          <p:cNvSpPr/>
          <p:nvPr/>
        </p:nvSpPr>
        <p:spPr>
          <a:xfrm>
            <a:off x="7010280" y="1523880"/>
            <a:ext cx="7621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1"/>
          <p:cNvSpPr/>
          <p:nvPr/>
        </p:nvSpPr>
        <p:spPr>
          <a:xfrm>
            <a:off x="-152280" y="2590920"/>
            <a:ext cx="2666880" cy="3733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2"/>
          <p:cNvSpPr/>
          <p:nvPr/>
        </p:nvSpPr>
        <p:spPr>
          <a:xfrm>
            <a:off x="2362320" y="2743200"/>
            <a:ext cx="2514600" cy="3581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3"/>
          <p:cNvSpPr/>
          <p:nvPr/>
        </p:nvSpPr>
        <p:spPr>
          <a:xfrm>
            <a:off x="6781680" y="2743200"/>
            <a:ext cx="2362320" cy="3581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235080" y="2990880"/>
            <a:ext cx="2133360" cy="33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влечение вниман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ники выбирают «плохое поведение», чтобы получить особое внимание учителя они всё время хотят быть в центре внимания, не давая учителю вести урок, а ребятам понимать учител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6"/>
          <p:cNvSpPr/>
          <p:nvPr/>
        </p:nvSpPr>
        <p:spPr>
          <a:xfrm>
            <a:off x="5486400" y="1600200"/>
            <a:ext cx="763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7"/>
          <p:cNvSpPr/>
          <p:nvPr/>
        </p:nvSpPr>
        <p:spPr>
          <a:xfrm>
            <a:off x="4648320" y="2743200"/>
            <a:ext cx="2361960" cy="3581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ть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некотор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ников глав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лью присут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класс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новится ме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реальну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ли вымышленну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и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9"/>
          <p:cNvSpPr/>
          <p:nvPr/>
        </p:nvSpPr>
        <p:spPr>
          <a:xfrm>
            <a:off x="2743200" y="3124080"/>
            <a:ext cx="16765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елание иметь влас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жно быть главными. Часто демонстрируют своим поведением: «Ты мне ничего не сделаеш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4876920" y="300816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3"/>
          <p:cNvSpPr/>
          <p:nvPr/>
        </p:nvSpPr>
        <p:spPr>
          <a:xfrm>
            <a:off x="7162920" y="3084480"/>
            <a:ext cx="152388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бегание неу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ятся повторить ситуацию поражения, неудачи, что предпочитаю вообще ничего не дел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000" spc="-1" strike="noStrike" u="sng">
                <a:solidFill>
                  <a:srgbClr val="6600cc"/>
                </a:solidFill>
                <a:uFillTx/>
                <a:latin typeface="Arial"/>
              </a:rPr>
              <a:t>Стратегия и тактика учителя в ситуации конфронта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Правило 1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660033"/>
                </a:solidFill>
                <a:latin typeface="Arial"/>
              </a:rPr>
              <a:t>Научитесь акцентировать внимание  на поступках ( поведении), а не на личности уче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ы должны быть твёрдыми в отношении конкретного поступка, чтобы прекратить его : « то, что  ты делаешь, должно быть сейчас же прекращено, но я всё ещё с симпатией отношусь к тебе»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Эта установка как бы декларирует вашу веру в то, что ваши ученики могут вести себя как следует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Object 4" descr=""/>
          <p:cNvPicPr/>
          <p:nvPr/>
        </p:nvPicPr>
        <p:blipFill>
          <a:blip r:embed="rId1"/>
          <a:stretch/>
        </p:blipFill>
        <p:spPr>
          <a:xfrm>
            <a:off x="7010280" y="1905120"/>
            <a:ext cx="1913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Правило 2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000066"/>
                </a:solidFill>
                <a:latin typeface="Arial Narrow"/>
              </a:rPr>
              <a:t>Займитесь своими негативными эмоция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ируйте  свои отрицательные эмоции. </a:t>
            </a:r>
            <a:r>
              <a:rPr b="0" i="1" lang="ru-RU" sz="2800" spc="-1" strike="noStrike">
                <a:solidFill>
                  <a:srgbClr val="660033"/>
                </a:solidFill>
                <a:latin typeface="Arial"/>
              </a:rPr>
              <a:t>Когда нас душит гнев и возмущение , мы уже не можем мыслить здраво, ни действовать логично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Хуже того мы демонстрируем эти отрицательные эмоции нашим ученикам, тоном, мимикой, всем своим видом. </a:t>
            </a:r>
            <a:r>
              <a:rPr b="0" i="1" lang="ru-RU" sz="2800" spc="-1" strike="noStrike">
                <a:solidFill>
                  <a:srgbClr val="660033"/>
                </a:solidFill>
                <a:latin typeface="Arial"/>
              </a:rPr>
              <a:t>И этим как бы подтверждаем решение ученика вести себя плохо, даём ему очевидное оправд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Object 4" descr=""/>
          <p:cNvPicPr/>
          <p:nvPr/>
        </p:nvPicPr>
        <p:blipFill>
          <a:blip r:embed="rId1"/>
          <a:stretch/>
        </p:blipFill>
        <p:spPr>
          <a:xfrm>
            <a:off x="6095880" y="1447920"/>
            <a:ext cx="2819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Правило 3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660033"/>
                </a:solidFill>
                <a:latin typeface="Tahoma"/>
              </a:rPr>
              <a:t>Не усиливайте напряжение ситуац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6400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Мы ошибаемся , когда в ответ на выходку в напряженной ситуа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аем голо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оизносим фразу типа: «учитель здесь пока я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авляю последнее слово за соб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чинаем крича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м уничижительные , оскорбительные, унижающие выра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Object 4" descr=""/>
          <p:cNvPicPr/>
          <p:nvPr/>
        </p:nvPicPr>
        <p:blipFill>
          <a:blip r:embed="rId1"/>
          <a:stretch/>
        </p:blipFill>
        <p:spPr>
          <a:xfrm>
            <a:off x="5943600" y="1905120"/>
            <a:ext cx="2971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м сарказ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щаемся к оценке характера  учен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йствуем как начальник (с превосходством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таиваем на своей право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таем проповед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авдываемся или защищаемся или «подлизываемся  к ученику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андуем требуем, дави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ображаем негод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05920" y="1600200"/>
            <a:ext cx="3808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1066680" y="2286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3276720" y="2286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5410080" y="2286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8"/>
          <p:cNvSpPr/>
          <p:nvPr/>
        </p:nvSpPr>
        <p:spPr>
          <a:xfrm>
            <a:off x="7238880" y="2286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2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равило 4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660033"/>
                </a:solidFill>
                <a:latin typeface="Arial Black"/>
              </a:rPr>
              <a:t>Обсудите поступок позж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говорить о некрасивом поведении ученика или его неверном решении нужно обязательно, но только не в момент самой выход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 тот момент когда, вы оба  - и учитель, и ученик – возбуждены, вам вряд ли удастся взаимодействовать конструктив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равило 5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660033"/>
                </a:solidFill>
                <a:latin typeface="Tahoma"/>
              </a:rPr>
              <a:t>Позвольте ученику «сохранить лицо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724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ники нередко играют в игру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По-своему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дрый учитель умеет играть в игру «По-своему», потому что он знает - таким образом он позволяет ученику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сохранить лицо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вместе с тем получает то, что ему нуж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Object 4" descr=""/>
          <p:cNvPicPr/>
          <p:nvPr/>
        </p:nvPicPr>
        <p:blipFill>
          <a:blip r:embed="rId1"/>
          <a:stretch/>
        </p:blipFill>
        <p:spPr>
          <a:xfrm>
            <a:off x="5087880" y="1600200"/>
            <a:ext cx="344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380520"/>
            <a:ext cx="8229600" cy="58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рудный ребёно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такой,  ребёнок которого трудно воспитывать. Он струдом подается воспитательному  процессу. Эта категория детей, демонстрирующих явные отклонения в личностном развитии. Отнесение ребёнка к данной категории осуществляется, как правило по внешним проявлениям его индивидуально – психологических особенностей, служащих препятствием для нормального протекания учебно воспитательного процесса. Причины, лежащие в основе нарушения характера и поведения ребёнка, бывают весьма разнообразными. Поэтому нередко к трудным детям относят детей, существенно различающихся по своим индивидуальным особеннос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8390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равило 6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000066"/>
                </a:solidFill>
                <a:latin typeface="Tahoma"/>
              </a:rPr>
              <a:t>Демонстрируйте модели неагрессивного повед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5181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1. Отложите «на потом»  дисциплинарные ме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римените в момент конфронтации одну из миротворческих, разряжающих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тмосферу ак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Object 4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3809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457840" y="-56606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228240"/>
            <a:ext cx="53337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ибольшая польза от этих правил в том, что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дети довольно быстро перенимают эту неагрессивную модель поведени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ни делают  то, что делаем мы, говорят так, как говорим мы. 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И если мы позволяем эмоциям брать вверх над разумом, то и ученики позволяют себе э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Object 4" descr=""/>
          <p:cNvPicPr/>
          <p:nvPr/>
        </p:nvPicPr>
        <p:blipFill>
          <a:blip r:embed="rId1"/>
          <a:stretch/>
        </p:blipFill>
        <p:spPr>
          <a:xfrm>
            <a:off x="5791320" y="685800"/>
            <a:ext cx="2514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41911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Bookman Old Style"/>
              </a:rPr>
              <a:t>Тот,  кто не умеет управлять собой, не может и управлять други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ат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j0292152"/>
          <p:cNvPicPr/>
          <p:nvPr/>
        </p:nvPicPr>
        <p:blipFill>
          <a:blip r:embed="rId1"/>
          <a:stretch/>
        </p:blipFill>
        <p:spPr>
          <a:xfrm>
            <a:off x="4876920" y="838080"/>
            <a:ext cx="3657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ы трудновоспитуемых и задачи воспитат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спитание педагогически запущённных подростков зависит от знания учителем их особенностей и умения их учитывать при организации воспитательной и учебной работы в шк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групп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жизненной перспектив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душие ко всему происходящему вокру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различие к тому, как к ним относятся окружающ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желание дума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мение организовать свой учебный тру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рванность от коллектива, равнодушие к его жизни, целям, задачам, перспектив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а воспитател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озбудить у этих ребят интерес к жизни, помочь обрести жизненные перспекти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групп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ая и конфликтная реакция на любые требования или обращения к ним учителей, воспита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обнаруживается озлобленность против всего, грубость, вызывающее повед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нстрируется удаль, бравада, которые  прикрывают безволие, потерю веры в себ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ои си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а воспитател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 беседе  с глазу на глаз  в дружеской форме развенчать их мнимую удаль; приучить к необходимости сдерживать свои желания, пробудить потребность в самовоспит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групп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еустойчивым поведением, поддаются внушени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ыкли плыть по течени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 поддаются положительному влиянию, хотя и отрицательному тож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ая смена настро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уют «исподтишка», стараются оставаться в те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ы конфликты с коллективом, но они не носят стойкого харак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 воспитател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оспитание волевых качеств, поддержка его усилий выдвинуть жизненные перспективы, закрепить положительное пове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2286000" y="304920"/>
          <a:ext cx="6172200" cy="6476760"/>
        </p:xfrm>
        <a:graphic>
          <a:graphicData uri="http://schemas.openxmlformats.org/drawingml/2006/table">
            <a:tbl>
              <a:tblPr/>
              <a:tblGrid>
                <a:gridCol w="1319040"/>
                <a:gridCol w="1684440"/>
                <a:gridCol w="3168720"/>
              </a:tblGrid>
              <a:tr h="590400">
                <a:tc>
                  <a:txBody>
                    <a:bodyPr lIns="43920" rIns="439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т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на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кретные способы и прие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764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убежд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ретное изменение оправдвательных мотивов неправильного поведения, формирование социальноценных привычек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ственное мнение, переубеждение словом, делом, примером, создание социального индивидуального жизненного опыта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764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учива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ранение отрицательных привычек, нездоровых потребностей, неправильных действий. Изменений жизненного опыта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нетани е отрицательных переживаний до предела, доведение до абсурда негативного в поведении подростка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4268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Взрыв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ушение отрицательных качеств, отрицательного стериотипа поведения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нетание отри цательных пережиаваний  до предела, доведение до абсурда негативного  в поведении подростка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3188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Реконструкция характера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сение определенных коррективов в духовный мир ребёнка, сохраняя отрицательное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перспектив, выявление положительного качества, составление программы реконструкции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4952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Переключение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е направленности, периориентация на следование положительному примеру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ы и приемы организации социально ценной деятельности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1272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ощрение и наказа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имулирование положительного поведения. Сдерживание отрицательного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поощрений и наказаний с поправкой на трудновоспитуемость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1428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исправле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активности подростков в перестройке и переделке своего характера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анализ, самооценка. Самоприучение,самоупражнение,самоосуждение,самонаказание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удный ребёнок - это непонятный ребёно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и групп трудных дете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, имеющие отклонения в физическом развит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авило, это замкнутые, с заниженной самооценкой учащиеся. Они склонны пропускать уроки, грубить учителями и детям, курить. Их поведение – защита от насмешек сверстников, желание самоутвердить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Дети, имеющие отклонения в психическом развит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часто нездержанны, импульсивны, агрессивны, склонны км лжи и истерикам. Таким детям, безусловно,  в первую очередь требуется помощь врача психоло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таких детей, как правило , не занимаются воспитанием. Это семьи наркоманов, алкоголиков, лиц, ведущих аморальный образ жизни. Дети из этих семей склонны к бродяжничеству, часто не посещают уроки без уважительной причины и, имея перед глазами негативный пример поведения, курят, употребляют алкоголь и наркотики, проявляют нездоровый сексуальный интере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Дети, контроль за успеваемостью и поведением которых в семье ослабле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жалению, в связи с тяжелым материальным положением многих семей, родители вынуждены работать не двух – трех предприятиях и лишь очень небольшое время  могут уделить воспитанию своих детей. Это. Безусловно, не оправдывает родителе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из этих, казалось бы, благополучных семей, имеют массу свободного неконтролируемого времени.  Кроме того, они часто имеют достаточно крупные суммы карманных денег. У них есть возможность допоздна находиться на улицах, общаться со сверстниками, покупать сигареты и спиртные напитки. Такие дети чаще других попадают в преступные группировки. Эти ребята учатся на «3»,являюьтся нарушителями школьной дисцеплины, хотя серьездные поступки совершают редко. Они могут участвовать  в вымогательстве, краже но делают это не из желания обогатиться, а «ради интереса» или «от скук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эти причины можно  подразделить на факторы, влияющие на формирование того или иного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ения ребён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чекие – (наследственные, связанные с особенностями физического здоровь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ие – (связанные с особенностями индивидуального психологического развития – особенности когнитивного и эмоционально – волевого развития, акцентуации личности в подростковом возраст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е – (особенности характера и поведения, связанные с субъективным опытом взаимодействия ребёнка с окружающим миром, стереотипам поведения, усвоенными в ближайшем окружении, которым является семья, друз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акции учителя на неприемлемое поведение учащихс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вмешатель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я в лучшем случае разъясняют ученикам, что случилось, когда всё уже случилось, рассчитывая, что дети сами постепенно научаться управлять своим повед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j0217698"/>
          <p:cNvPicPr/>
          <p:nvPr/>
        </p:nvPicPr>
        <p:blipFill>
          <a:blip r:embed="rId1"/>
          <a:stretch/>
        </p:blipFill>
        <p:spPr>
          <a:xfrm>
            <a:off x="5181480" y="2209680"/>
            <a:ext cx="31244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48769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2. Контроль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я очень похожи на начальников: они требуют, командуют, направляют. Основные методы воздействия- угрозы и шантаж: «Если ты не замолчишь, я…» (далее называется наказание, демонстрирующее хорошее знание «слабых мест» каждого ученика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j0195812"/>
          <p:cNvPicPr/>
          <p:nvPr/>
        </p:nvPicPr>
        <p:blipFill>
          <a:blip r:embed="rId1"/>
          <a:stretch/>
        </p:blipFill>
        <p:spPr>
          <a:xfrm>
            <a:off x="4952880" y="914400"/>
            <a:ext cx="3733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омашний</dc:creator>
  <dc:description/>
  <dc:language>en-US</dc:language>
  <cp:lastModifiedBy>Домашний</cp:lastModifiedBy>
  <dcterms:modified xsi:type="dcterms:W3CDTF">2017-04-02T15:21:32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